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1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6560" cy="337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096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160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6108-3C03-4BAB-AFB4-38CD9171D3FB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F3756-C99E-4FBD-93EE-8724270AA1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21240" cy="337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21240" cy="337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3240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4653-DD18-4D77-9450-36700D467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1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13BA-79BB-4583-B687-73C5BB6DA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FD4A-1FC4-4B2C-AD4B-72B834D95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98072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4360" y="198072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19220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4360" y="419220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38AC-7889-41FA-A6F0-B89E17574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16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6C06-F4E3-4C65-8AA2-99B48FFBA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6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E348-2C02-44D5-8903-D68783020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D816-33FC-46D3-8A06-DA13D1947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8EB5-FFD3-4951-8522-C6C3EC7F2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16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EB40-7069-4B35-86F6-C108158AF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D835-583B-491F-942D-FDD769983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DE2C-2E15-4375-8EBB-3DFE03129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1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24E4-80DD-495B-AC07-F887EB00C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16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49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89E83-41D1-46F0-97A0-EEAFA9AF919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21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079640"/>
            <a:ext cx="809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. Philipp Hart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 Cobrança pelo Uso da Águ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strumento Econômico n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2920" y="575928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8000" y="3743280"/>
            <a:ext cx="738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Estudo Comparativo e Avaliação Econômica dos Modelos de Cobrança pelo Uso da Água Br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ropostos e Implementados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asília CTCOB, 29 de abril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7280" y="79200"/>
            <a:ext cx="8407440" cy="67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79640" y="2700360"/>
            <a:ext cx="66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r o Princípio Usuário/Poluidor Pagador (PUP/PPP)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xa ambiental para internalizar os custo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1619280"/>
            <a:ext cx="648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cação ót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72072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lidade da política ambi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m vez de sol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"ótima" → solução custo-efetiva (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2160720"/>
            <a:ext cx="77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politica de objetivos → atingir objetivos ecológicos ao menor custo social possí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9280" y="4643280"/>
            <a:ext cx="738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eito incitativo de instrumentos econô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3311640"/>
            <a:ext cx="6665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xa ambiental: internaliz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parcial de cu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ais desconh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640" y="426960"/>
            <a:ext cx="781200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280" y="1008000"/>
            <a:ext cx="4507200" cy="360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079640"/>
            <a:ext cx="4397400" cy="351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60360" y="5400720"/>
            <a:ext cx="864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iciência econômica = minimizar custos d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640" y="426960"/>
            <a:ext cx="781200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5335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rança incitativa e de financiamento (Cánepa/Pereira/Lanna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04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503280"/>
            <a:ext cx="71992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axa/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/impos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ambiental = pagamento por unidade usada do bem ambient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216072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internaliza custos ambientais → PUP/PPP → reflete (parte do) valor econômico do bem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79640" y="3132000"/>
            <a:ext cx="7559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efeito incitativo → mud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 de comportamento por parte do usuário (compara custo de taxa e red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4720" y="4222800"/>
            <a:ext cx="70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efeito financeiro – gera rec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306072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28796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99280" y="414036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-179280"/>
            <a:ext cx="702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360" y="5580000"/>
            <a:ext cx="809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mplement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prática: cobrança pelo uso da água b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82480" y="973080"/>
            <a:ext cx="784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Objetivos segundo as leis brasileiras: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alizar valor econômico real do recurs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internalização de custos ambientais – PU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ução de um uso racional 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ocar mudança de comportamento do usuário através do preço do recurs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r recurso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a gestão dos recursos hídricos → efeito colateral; grande importancia na prática e para a viabilidade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bran</a:t>
            </a:r>
            <a:r>
              <a:rPr b="1" i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ça consegue atingir estes objetiv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7120"/>
            <a:ext cx="7010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 cobra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 pelo uso da água bruta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1152360"/>
            <a:ext cx="7920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s pelo uso da água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íba do Sul / P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ará (desde 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o “Águas do Vale” (CE, Rio Jaguarib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propostas de metodologias, p.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p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ótimos", "STÁgua", Cob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incitativa e de financiamento, Cob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em fu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da escassez de outorg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1079640"/>
            <a:ext cx="7380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 Algumas Consider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ões Econô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isão econômica do valor ambi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de taxas ambient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060720"/>
            <a:ext cx="770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As cobra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s pelo uso da água bruta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lgumas Críticas gerais do ponto de vista da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079640"/>
            <a:ext cx="77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da cobrança = unidade de uso (m³/kg DBO) * preço unitário * fator(es) de multi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9640" y="2700360"/>
            <a:ext cx="774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eita, efeito incitativo, custo-eficiência e PUP/PPP dependem dos valores e ponde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dos fa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539640"/>
            <a:ext cx="7199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efeito financ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871640"/>
            <a:ext cx="5483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co na receita – remediar em vez de pre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629080"/>
            <a:ext cx="7885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eita demasiado baixa par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ciona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5360" y="3494160"/>
            <a:ext cx="7572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lema: receita vs. efeito incitativ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xa ambiental ideal privar-se-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 sua fonte de ta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360360"/>
            <a:ext cx="815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lema: efeito financeiro vs.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03640" y="1081080"/>
            <a:ext cx="407844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76360" y="147492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eito incitativo depende de elasticidade-p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o → pesquis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onsider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ção n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720" y="2340000"/>
            <a:ext cx="774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ores muito pequenos 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geram incentivo signifi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6360" y="321624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erenci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os valores segundo usuários ini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5183280"/>
            <a:ext cx="7020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entivo 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está no foco de a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cial custo-eficiente da cobrança não é aprove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036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4140360"/>
            <a:ext cx="71992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Arial"/>
              </a:rPr>
              <a:t>ca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m fu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e outorga e valores medios reduzem incent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5335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nça incitativa e de fina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76440" y="1504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36036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6360" y="1619280"/>
            <a:ext cx="738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entivo para consumidor fin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6040" y="2205000"/>
            <a:ext cx="790740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00000" y="1403280"/>
            <a:ext cx="719928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382840"/>
            <a:ext cx="792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a de cobr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 ou valor demasiado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ção de externalização de custo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39640"/>
            <a:ext cx="7199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falta de implementação do PU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5080" y="4464000"/>
            <a:ext cx="7019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ção de valores segundo critério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subsídio para determinados setores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subsídio "ambiental" e financeiro (via custos de oportunidad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0000" y="3382920"/>
            <a:ext cx="665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a de cobrar valor real da água = subsídio de usuários atuais (a custo de usuários fut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720" y="1440000"/>
            <a:ext cx="864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ores baixos, falta de considerar peculiariedades de cada bacia  → 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sinaliza valor real econômico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07964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o: baixa capacidade de pagamento → resistências → diferenci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os valores da cobranç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↔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a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vitar efeitos sociais negativos e confl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a subídios/compen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ões financei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9280" y="3743280"/>
            <a:ext cx="719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ão do 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bsídio como incentivo via "cobr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ça negativa" ou internalização de benefíc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720" y="4896000"/>
            <a:ext cx="719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programa "produtor de agu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"Wasserpfennig" na Alem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Projet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Águas do Va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istema franc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0720" y="2808360"/>
            <a:ext cx="80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se abre mão do efeito incitativo mas sim se reforça ele! (caso extremo: saldo zero, incentivo dup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60360"/>
            <a:ext cx="792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lema: intereses ambientais vs. interese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79640" y="971640"/>
            <a:ext cx="594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água virtual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00360" y="1573200"/>
            <a:ext cx="595944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79640" y="755640"/>
            <a:ext cx="70196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mi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os valores não em função do dano econômico nem do efeito incitativo desejado, mas da receita desejada ou modelos pre-existentes (RS 0,01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pet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ão do princípio "remediar em vez de previr" ("fazendo vaquinha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ceita atual muitas vezes nem alcança para consertar danos de maneira 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alta de efeito incitativo (ineficiê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licação da receita custo-eficiente? (Caso não = desperdiço de re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522144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subsídio ambiental"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ização de cust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12720" y="1295280"/>
            <a:ext cx="846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o do meio ambiente → efeitos ecológ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stos econômico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em caso de bens escas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9440" y="2556000"/>
            <a:ext cx="702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uem tem que "pagar a cont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3959280"/>
            <a:ext cx="756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20720" y="757080"/>
            <a:ext cx="7559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s automáticos dos valores ? (desde 2003 red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ão significativa dos valores → cf. modelo STÁgua, Rio Do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ito psicológico da cob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a → PUP/PPP (visão econômica  → visualizar custos invisívei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pel da ANA? / Uniformização de metodolo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ior variação dos preços unitários, fatores de multiplicação? (razão dos valores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ecessidade de medidas flanqueadoras para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ponsabilidade social, princípio preca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"pagar para preservar!" - 3 objetivos das leis de RH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31964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85960" y="695160"/>
            <a:ext cx="52149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wnload gratuito do liv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COBRANÇA PELO USO DA ÁGUA COMO INSTRUMENTO ECONÔMICO DA POLÍTICA AMBI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2d2db9"/>
                </a:solidFill>
                <a:uFillTx/>
                <a:latin typeface="Arial"/>
              </a:rPr>
              <a:t>www.phartmann.de/livr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ontat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philipp@phartman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59280" y="3959280"/>
            <a:ext cx="3959280" cy="27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0000" y="1260360"/>
            <a:ext cx="3600360" cy="249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12760" y="1079640"/>
            <a:ext cx="42861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395928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1800" y="336600"/>
            <a:ext cx="3417840" cy="236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319640" y="2879640"/>
            <a:ext cx="4657680" cy="33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30320" y="2813040"/>
            <a:ext cx="275112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81000" y="720720"/>
            <a:ext cx="2438640" cy="162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90840" y="147600"/>
            <a:ext cx="3810240" cy="2552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0280" y="2160720"/>
            <a:ext cx="4600800" cy="306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19640" y="3052800"/>
            <a:ext cx="544824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277812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erentes metodologias de valor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e custos e benefícios ambient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440000"/>
            <a:ext cx="66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rnaliz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e custo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6720" y="4427640"/>
            <a:ext cx="648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rnaliz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custos 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oc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subótima d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720720" y="-360360"/>
            <a:ext cx="1152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760" y="108000"/>
            <a:ext cx="8351640" cy="669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3:37:13Z</dcterms:created>
  <dc:creator>Administrator</dc:creator>
  <dc:description/>
  <dc:language>en-US</dc:language>
  <cp:lastModifiedBy>flumen</cp:lastModifiedBy>
  <dcterms:modified xsi:type="dcterms:W3CDTF">2009-03-05T01:36:45Z</dcterms:modified>
  <cp:revision>217</cp:revision>
  <dc:subject/>
  <dc:title>PowerPoint-Präsentation</dc:title>
</cp:coreProperties>
</file>